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272-0BF4-4F6A-9A6B-B59CB495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E52-FE24-4C70-A28F-04192563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33A-153B-4E09-8AC0-3E8B2793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B4D-187B-4003-AD39-305400C0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43C-5DD4-4E94-877D-70DBE4A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8B1-F6C3-4080-9F07-D4C6F09F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3D3-CD88-4F07-84C3-743C993F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024-C2A5-41FE-A90A-835E6FC9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A0D-AE03-46D3-9DA8-BB7F370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F09-8A66-424B-BC92-16441DB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B5E-171E-4C56-900E-2FCE2758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142-D598-4024-AB63-4557769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116-FDE6-467A-8560-3ACDEEE37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ueybobby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by Se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as a political activist, Black Panther, and cultural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and 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by seale was born in 1936 in Dallas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Grew up in texas, but relcoated to Oakland due to 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ropped out of high school and joined the Air Force, but was dishonorably discharged after only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AirForce"/>
          <p:cNvPicPr/>
          <p:nvPr/>
        </p:nvPicPr>
        <p:blipFill>
          <a:blip r:embed="rId1"/>
          <a:stretch/>
        </p:blipFill>
        <p:spPr>
          <a:xfrm>
            <a:off x="6095880" y="5105520"/>
            <a:ext cx="1673280" cy="140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elcome_2_Dallas"/>
          <p:cNvPicPr/>
          <p:nvPr/>
        </p:nvPicPr>
        <p:blipFill>
          <a:blip r:embed="rId2"/>
          <a:stretch/>
        </p:blipFill>
        <p:spPr>
          <a:xfrm>
            <a:off x="7238880" y="533520"/>
            <a:ext cx="1676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ing the black pan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age of 25, Seale attended Oakland City College, Joined the Afro-American-Assosiation, and met the man whth whom he co founded the black panthers with, Huey New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ether, the two would form the black panther party in october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uey"/>
          <p:cNvPicPr/>
          <p:nvPr/>
        </p:nvPicPr>
        <p:blipFill>
          <a:blip r:embed="rId1"/>
          <a:stretch/>
        </p:blipFill>
        <p:spPr>
          <a:xfrm>
            <a:off x="6934320" y="4191120"/>
            <a:ext cx="2019240" cy="236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Emblem%20of%20the%20Black%20Panther%20Party%20of%201966_thumb%5B8%5D"/>
          <p:cNvPicPr/>
          <p:nvPr/>
        </p:nvPicPr>
        <p:blipFill>
          <a:blip r:embed="rId2"/>
          <a:stretch/>
        </p:blipFill>
        <p:spPr>
          <a:xfrm>
            <a:off x="4114800" y="4800600"/>
            <a:ext cx="1438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lack Panther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Panther Party was an african american revolutionary group aimed at giving blacks more power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that Blacks in america were greatly mis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by Seales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Seale’s biggest biggest influence to start the Black Panther Party was a black civil rights activist named Malcom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le was outraged When X was murdered in 1965. therefore, it was a big influence on starting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MalcolmX"/>
          <p:cNvPicPr/>
          <p:nvPr/>
        </p:nvPicPr>
        <p:blipFill>
          <a:blip r:embed="rId1"/>
          <a:stretch/>
        </p:blipFill>
        <p:spPr>
          <a:xfrm>
            <a:off x="7620120" y="304920"/>
            <a:ext cx="1143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 Panthers and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panther party was strongly against the Vietnam war in the 1970s because they did not want to support a war that enlisted blacks to fight for america, acountry they believed did not treat them por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63360" y="-136440"/>
            <a:ext cx="7391520" cy="73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il time for Se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8, Seale was sentenced tro four years in prison for outbursts and riots at the democratic national convention in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years later, he was put on trial in New Haven, CT as part of the new haven black pan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leased from prison in 1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ng 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his release from prison in 1972, Seale vowed to be non vio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now 72, and goes to various high school and college campuses speaking about his life and against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2:12:06Z</dcterms:created>
  <dc:creator>Joe Mixie</dc:creator>
  <dc:description/>
  <dc:language>en-US</dc:language>
  <cp:lastModifiedBy>Joe Mixie</cp:lastModifiedBy>
  <dcterms:modified xsi:type="dcterms:W3CDTF">2010-12-20T02:08:33Z</dcterms:modified>
  <cp:revision>45</cp:revision>
  <dc:subject/>
  <dc:title>Bobby Seale</dc:title>
</cp:coreProperties>
</file>